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jpeg" ContentType="image/jpeg"/>
  <Override PartName="/ppt/media/image33.jpeg" ContentType="image/jpeg"/>
  <Override PartName="/ppt/media/image9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1.jpeg" ContentType="image/jpeg"/>
  <Override PartName="/ppt/media/image4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7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4.png" ContentType="image/png"/>
  <Override PartName="/ppt/media/image36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1B5-8CF0-4BD2-A633-F06EE8E8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2715-28B7-4E8D-9879-82C31ED2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1AE05-F413-46C9-A5CE-A76A57E4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33AFC-CA39-4145-BA64-A8FB59E4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BF34C-59E0-43E2-AABA-169FEBE3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D4115-ABAB-44CC-AE0C-428F89B1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AEB43-9934-4788-B814-C6DAFDB2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FE279-7E7A-4001-B62D-6DB2A455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DA624-2DD3-4769-B603-A27798C8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162F6-B865-4D48-9576-FD7DAD40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31EE7-ECC6-4074-BFD1-1AB6E427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411-2F73-46DE-BABC-252AC9DC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17F-BC00-4C01-9CFB-718565A3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9E97-48F0-4107-BEE1-4034961D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7989-4D4D-43F4-B8C7-A4ABF3EC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B2FC-91FC-424F-95B5-E4AE66DB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4E87-AAA0-46B8-9694-7015243E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9B97-31F3-4808-BDAC-55B290BA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8008-4DD8-4D75-93A2-C2EE3DEB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8BB7-6039-41C2-978A-A24D5C1C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809C-A852-43F3-9CD1-16030C6F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A620-CC65-4E4C-808F-34E2C896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2CA0-B0E4-41A3-AAE0-A698F3CE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BAEB-9ADF-4020-841D-E004D382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5927-ED52-4D97-9935-AEC79F1E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4B56-956B-408C-8A48-D876D933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27E80-95F6-417D-AB08-E01EFAD2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4B9A9-1685-458E-90A4-E1D976B2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40CD6-1614-43AD-B00B-1A48BCDA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C9060-FC73-4205-9956-E28C3422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51012-6115-4EEA-A671-020E4F7E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E4FB-8E64-4BCC-8E5F-2E84C88D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57273-C018-4E02-919D-EE45B985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C5684-475D-40B2-AD1F-063639AF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252F7-797D-496E-A99C-8428CD57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6D3A1-E5CB-46C8-A56E-BEAAB2C2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71C1A-00E5-4502-8F62-AB16BAF7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61C21-E624-41AB-B824-E13C18E6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E8056-7E90-4CC7-8770-E44368F1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2EAD1-6BDB-43A0-B86C-5281E9CC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436D0-1722-4321-A04C-B912C66F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37095-EF23-436A-8E9E-A01EFE68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9E7-2013-4971-9DC0-1491DD00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3E41B-646D-49E5-9F7A-D18B1FA7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8412C-F4D6-4495-9EBC-B0318A00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1E8CF-EC45-4E6E-ACFF-7526DBAE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AB171-D0D9-41A4-A084-798C9B8D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4A59B-C31B-4E59-AF71-042BCBBB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64E93-FB0E-4D84-AAB4-D8F7753F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D62C6-39FA-48A1-99C4-E5A98024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F0F7A-0DC4-4B3B-8709-C079613C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C0395-C70A-4EF9-866E-024E9AA3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D04CF-5136-4F08-8A05-302C3B14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9C1-B01C-40EB-BE9A-376232D0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2A0B9-285A-4D6B-8F5F-889280A0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AE9C5-BB71-4BCB-BDFF-C401EED5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54F0B-B65D-461A-AF91-70283E19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81274-40C2-4BD9-9A08-2B03675B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9DEA0-5DEF-4041-A798-65DEA492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DDD91-0844-449B-89FF-32325263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0DB24-AF68-41E3-B9C6-A15701C0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28675-E4D2-4C25-A84F-F4FA7BF4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86E91-1BE9-41A4-A9B5-4C4E9CDE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AA230-60A5-4F92-933C-C98DD64C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3B38-B8D8-4E20-8209-2343FF3E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950FE-0075-47CF-8A10-6FDBF3DB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D187E-3317-4802-9ECE-AB94D2F4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85D22-16A1-41CC-8194-5A9F2AC7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6FB82-EBE1-4EAE-BA0E-37C7495E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7E45D-ACCB-4BEC-8D65-33AAEAA0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4472D-1F4A-47A9-A1AB-4DE3050A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16C42-564F-4B2C-9550-C432A9DB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5D8D0-561A-4B85-9605-C181D75E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9827B-30F5-4D72-BCFE-586683A3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CAFBA-7ED5-4A6C-A4E3-F5B15E02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5B7F-C18A-468D-9F37-D14CF398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1D346-5620-4E05-A431-9748CDE0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5EC01-E177-482E-BD53-659E82AF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6822E-FF16-47A8-BF4D-D961A04C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E6C59-3769-4676-9290-F0A6D323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96B3C-C517-4721-AF41-30D10B46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975DE-CF26-46BB-8510-EBBC834B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0E455-000B-411D-8F1A-F4EA1D12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FF64F-DBAC-49A0-A843-5D94AF56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A9CD3-0897-46D4-9EDC-AA38CB62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789CE-598E-4C13-A366-0F0B4AAE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1A5-96C9-445E-82A6-7F693939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25CF2-3DE8-4490-A263-D4C8FE83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0CD23-9352-47B6-A544-BACC1D05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582AB-EFEA-4FA6-A207-967B54B1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566C8-2A44-4854-B1C6-1213BAEE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3A0B9-1BA3-46B5-85B5-6B7A0522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E3222-5306-44FC-A8CA-2C548816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B51FA-4A36-4DDA-86D0-88953E16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6C2CA-C2A6-4256-823C-DBA981A0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7B852-2586-479B-B909-7D2BFA58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B7354-4F4F-4E16-8A48-C30892E7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F76-6BC6-40C9-850B-05D41600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295F7-4685-4B70-AB69-9E978421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5B4DA-C1BB-4930-BA96-17E160C8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A12BD-D64E-4DF8-8CA1-6B596BF4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AE21C-9760-45EE-B0C4-FB8A132D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36702-DA71-43EE-88C3-D90AA753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858F4-F3A7-4FDB-AC27-A1FFAF04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B5F10-51F0-4AD5-B639-633AD9E3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6E101-BD68-43D8-BC35-BB6D0290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B523E-15E1-42B6-980B-5507E4B5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0EE28-47CD-4961-8A38-CCFBB50D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0CC4-A6A5-4B76-8A12-4A116DAA6F0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A77E-4E1E-4093-A301-49AE3087052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A06F-5358-4995-8499-3D791BE2F75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7437-0CB3-4950-8542-256AC314E10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E347-617B-49EB-B9E2-2B3AB1A68B9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3B73-F990-4A4D-B86A-6370C33B75E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ACE6-BE63-41BF-96E6-2692D078ABD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E95B-C006-4148-9C1E-876760A18DB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A867-D9DD-4AEF-B096-D96E356258C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jmdesignsolutions.com/changes/images/index_r5_c3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8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8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8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682560" y="3322800"/>
            <a:ext cx="7785000" cy="2266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Franklin Gothic Book"/>
              </a:rPr>
              <a:t>Kristi Rey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Franklin Gothic Book"/>
              </a:rPr>
              <a:t>ESL Clas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Franklin Gothic Book"/>
              </a:rPr>
              <a:t>Spring 2008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5" descr="index_r5_c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380880"/>
            <a:ext cx="5639040" cy="3027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stan-2003-w-soccer-wallpaper"/>
          <p:cNvPicPr/>
          <p:nvPr/>
        </p:nvPicPr>
        <p:blipFill>
          <a:blip r:embed="rId3"/>
          <a:srcRect l="0" t="9646" r="0" b="0"/>
          <a:stretch/>
        </p:blipFill>
        <p:spPr>
          <a:xfrm>
            <a:off x="1219320" y="1600200"/>
            <a:ext cx="6999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HW_SH005-W"/>
          <p:cNvPicPr/>
          <p:nvPr/>
        </p:nvPicPr>
        <p:blipFill>
          <a:blip r:embed="rId3"/>
          <a:stretch/>
        </p:blipFill>
        <p:spPr>
          <a:xfrm>
            <a:off x="3276720" y="1676520"/>
            <a:ext cx="315432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158760" y="450720"/>
            <a:ext cx="8839080" cy="101304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showercat.jpg"/>
          <p:cNvPicPr/>
          <p:nvPr/>
        </p:nvPicPr>
        <p:blipFill>
          <a:blip r:embed="rId3"/>
          <a:stretch/>
        </p:blipFill>
        <p:spPr>
          <a:xfrm>
            <a:off x="1905120" y="1523880"/>
            <a:ext cx="548640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103320" y="-85680"/>
            <a:ext cx="8912160" cy="22384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C:\Documents and Settings\Kristi DeMersseman\Local Settings\Temporary Internet Files\Content.IE5\V9IKHK9K\MPj04231250000[1].jpg"/>
          <p:cNvPicPr/>
          <p:nvPr/>
        </p:nvPicPr>
        <p:blipFill>
          <a:blip r:embed="rId3"/>
          <a:stretch/>
        </p:blipFill>
        <p:spPr>
          <a:xfrm>
            <a:off x="2514600" y="1828800"/>
            <a:ext cx="461628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Flowchart: Punched Tape 6"/>
          <p:cNvSpPr/>
          <p:nvPr/>
        </p:nvSpPr>
        <p:spPr>
          <a:xfrm>
            <a:off x="380880" y="1600200"/>
            <a:ext cx="8229600" cy="4419720"/>
          </a:xfrm>
          <a:prstGeom prst="flowChartPunchedTape">
            <a:avLst/>
          </a:pr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5008"/>
                </a:solidFill>
                <a:latin typeface="Franklin Gothic Book"/>
              </a:rPr>
              <a:t>Life is short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5008"/>
                </a:solidFill>
                <a:latin typeface="Franklin Gothic Book"/>
              </a:rPr>
              <a:t>Work hard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5008"/>
                </a:solidFill>
                <a:latin typeface="Franklin Gothic Book"/>
              </a:rPr>
              <a:t>play hard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5008"/>
                </a:solidFill>
                <a:latin typeface="Franklin Gothic Book"/>
              </a:rPr>
              <a:t>enjo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index"/>
          <p:cNvPicPr/>
          <p:nvPr/>
        </p:nvPicPr>
        <p:blipFill>
          <a:blip r:embed="rId3"/>
          <a:stretch/>
        </p:blipFill>
        <p:spPr>
          <a:xfrm>
            <a:off x="2590920" y="16765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prop5557_22679"/>
          <p:cNvPicPr/>
          <p:nvPr/>
        </p:nvPicPr>
        <p:blipFill>
          <a:blip r:embed="rId3"/>
          <a:stretch/>
        </p:blipFill>
        <p:spPr>
          <a:xfrm>
            <a:off x="1371600" y="1447920"/>
            <a:ext cx="6477120" cy="4890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9047160" cy="16891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5"/>
          <p:cNvSpPr/>
          <p:nvPr/>
        </p:nvSpPr>
        <p:spPr>
          <a:xfrm>
            <a:off x="63360" y="0"/>
            <a:ext cx="5715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-295200" y="0"/>
            <a:ext cx="441000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3"/>
          <a:stretch/>
        </p:blipFill>
        <p:spPr>
          <a:xfrm>
            <a:off x="1447920" y="1523880"/>
            <a:ext cx="6400800" cy="4977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8894520" cy="16891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86000" y="1676520"/>
            <a:ext cx="4659480" cy="4809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8894520" cy="16891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boundarymapsml"/>
          <p:cNvPicPr/>
          <p:nvPr/>
        </p:nvPicPr>
        <p:blipFill>
          <a:blip r:embed="rId3"/>
          <a:stretch/>
        </p:blipFill>
        <p:spPr>
          <a:xfrm>
            <a:off x="0" y="1752480"/>
            <a:ext cx="4952880" cy="4630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toyotacarlsbad"/>
          <p:cNvPicPr/>
          <p:nvPr/>
        </p:nvPicPr>
        <p:blipFill>
          <a:blip r:embed="rId4"/>
          <a:stretch/>
        </p:blipFill>
        <p:spPr>
          <a:xfrm>
            <a:off x="4572000" y="1752480"/>
            <a:ext cx="4343400" cy="571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9" descr="logousa150-150"/>
          <p:cNvPicPr/>
          <p:nvPr/>
        </p:nvPicPr>
        <p:blipFill>
          <a:blip r:embed="rId5"/>
          <a:stretch/>
        </p:blipFill>
        <p:spPr>
          <a:xfrm>
            <a:off x="6095880" y="2438280"/>
            <a:ext cx="1981440" cy="19684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NAI Logo"/>
          <p:cNvPicPr/>
          <p:nvPr/>
        </p:nvPicPr>
        <p:blipFill>
          <a:blip r:embed="rId6"/>
          <a:stretch/>
        </p:blipFill>
        <p:spPr>
          <a:xfrm>
            <a:off x="5772240" y="4572000"/>
            <a:ext cx="1695240" cy="1905120"/>
          </a:xfrm>
          <a:prstGeom prst="rect">
            <a:avLst/>
          </a:prstGeom>
          <a:ln w="0">
            <a:noFill/>
          </a:ln>
        </p:spPr>
      </p:pic>
      <p:sp>
        <p:nvSpPr>
          <p:cNvPr id="421" name="Oval 12"/>
          <p:cNvSpPr/>
          <p:nvPr/>
        </p:nvSpPr>
        <p:spPr>
          <a:xfrm>
            <a:off x="76320" y="3276720"/>
            <a:ext cx="83808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3"/>
          <p:cNvSpPr/>
          <p:nvPr/>
        </p:nvSpPr>
        <p:spPr>
          <a:xfrm>
            <a:off x="533520" y="4343400"/>
            <a:ext cx="8380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5"/>
          <p:cNvSpPr/>
          <p:nvPr/>
        </p:nvSpPr>
        <p:spPr>
          <a:xfrm>
            <a:off x="457200" y="5867280"/>
            <a:ext cx="22096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MCC-Logo4"/>
          <p:cNvPicPr/>
          <p:nvPr/>
        </p:nvPicPr>
        <p:blipFill>
          <a:blip r:embed="rId3"/>
          <a:stretch/>
        </p:blipFill>
        <p:spPr>
          <a:xfrm>
            <a:off x="457200" y="1600200"/>
            <a:ext cx="1600200" cy="11192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CLC1"/>
          <p:cNvPicPr/>
          <p:nvPr/>
        </p:nvPicPr>
        <p:blipFill>
          <a:blip r:embed="rId4"/>
          <a:stretch/>
        </p:blipFill>
        <p:spPr>
          <a:xfrm>
            <a:off x="2209680" y="1523880"/>
            <a:ext cx="6629400" cy="498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8894520" cy="16891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Saint%20Malo%20Heather%20girl%20woman%20femalewalking%20on%20sandy%20Beach%20alone%20top%20view%20aerial"/>
          <p:cNvPicPr/>
          <p:nvPr/>
        </p:nvPicPr>
        <p:blipFill>
          <a:blip r:embed="rId3"/>
          <a:stretch/>
        </p:blipFill>
        <p:spPr>
          <a:xfrm>
            <a:off x="1600200" y="1600200"/>
            <a:ext cx="620064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158760" y="450720"/>
            <a:ext cx="8839080" cy="10130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soccer 007"/>
          <p:cNvPicPr/>
          <p:nvPr/>
        </p:nvPicPr>
        <p:blipFill>
          <a:blip r:embed="rId2"/>
          <a:stretch/>
        </p:blipFill>
        <p:spPr>
          <a:xfrm>
            <a:off x="2874960" y="1494000"/>
            <a:ext cx="3106800" cy="4983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9:39:23Z</dcterms:created>
  <dc:creator>Master_Image</dc:creator>
  <dc:description/>
  <dc:language>en-US</dc:language>
  <cp:lastModifiedBy>Kristi Reyes</cp:lastModifiedBy>
  <dcterms:modified xsi:type="dcterms:W3CDTF">2008-04-17T14:35:10Z</dcterms:modified>
  <cp:revision>8</cp:revision>
  <dc:subject/>
  <dc:title>Life Changes</dc:title>
</cp:coreProperties>
</file>